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F94C-5E23-408C-AEBF-FF2F612685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раннего барокко (1600—16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3B01-F06A-4EAC-8D4D-ED4BB90F50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6A5F-104F-4609-AF1E-BC372A8839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E79E-EB38-4DC7-98FB-47BE367C15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8B05-7CFF-4673-9C8E-BEBC25E46F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A283-F5A2-489F-AFAA-8005C2BBD0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3BE1-9DA5-43D8-BCBD-C722428E4B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3DE3-D7DD-425C-9C53-9E56267490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72A1-52AC-4902-8116-515DD7EBD3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8F1D-038E-4A31-A40A-4DCB84FBB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29AB-A8DA-4941-AEF1-372D4EFAF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42A9-328D-4EEB-B7A1-794C77D37D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4CD5-002C-4D05-B253-5D23625E90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ABB-5CAE-44A7-BFDE-F16140F6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EC2-A63C-4DCF-A848-C293DEA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78B-9721-41BD-8C99-258E7939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D35-E6D2-4BF8-8B5B-05BD2618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EEA-2E3F-4C81-A7D2-32E9DDCE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4BE-4CF7-47A1-84C2-DEFBD58A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11C-E950-4F4D-A7AB-95BAF562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095-C21E-4F26-B63A-86C71677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29F-E342-4914-BA68-883757CA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8BB-FFED-431B-B00A-A2D3A0B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385-9FAB-4BE7-ABB4-B5D772DE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0E8-9ABE-4FA9-BEB0-A1E40839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C6B2-674E-4DB4-9699-008AAD3A3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181080"/>
            <a:ext cx="874872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раннего барокко (1600—16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1400" y="800280"/>
            <a:ext cx="3727440" cy="461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562284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лаудио Монтеверди кисти Бернардо Строцци, 1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211640" y="662040"/>
            <a:ext cx="471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0" y="985680"/>
            <a:ext cx="411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4282920" cy="511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4087800"/>
            <a:ext cx="42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356000" y="237960"/>
            <a:ext cx="478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41280" y="0"/>
            <a:ext cx="3367080" cy="4221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465300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699000" cy="4464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4284720" y="237960"/>
            <a:ext cx="48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12840" y="503280"/>
            <a:ext cx="3840120" cy="5734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443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995640" y="368280"/>
            <a:ext cx="514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38847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924360" y="-27000"/>
            <a:ext cx="521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140360" y="530064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549360"/>
            <a:ext cx="368136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708360" y="115920"/>
            <a:ext cx="543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708360" y="4653000"/>
            <a:ext cx="498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333072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7873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72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40464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33544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52:36Z</dcterms:created>
  <dc:creator>Татьяна Николаевна</dc:creator>
  <dc:description/>
  <dc:language>en-US</dc:language>
  <cp:lastModifiedBy>LEGION</cp:lastModifiedBy>
  <dcterms:modified xsi:type="dcterms:W3CDTF">2015-04-02T07:07:36Z</dcterms:modified>
  <cp:revision>7</cp:revision>
  <dc:subject/>
  <dc:title>Слайд 1</dc:title>
</cp:coreProperties>
</file>